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8.wmf" ContentType="image/x-wmf"/>
  <Override PartName="/ppt/media/image13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31" spc="-1" strike="noStrike">
                <a:solidFill>
                  <a:srgbClr val="000000"/>
                </a:solidFill>
                <a:latin typeface="Arial"/>
              </a:defRPr>
            </a:pPr>
            <a:r>
              <a:rPr b="1" sz="1531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798095734968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2177731403"/>
          <c:y val="0.209197700574856"/>
          <c:w val="0.959958262684231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2</c:v>
                </c:pt>
                <c:pt idx="3">
                  <c:v>0</c:v>
                </c:pt>
                <c:pt idx="4">
                  <c:v>1</c:v>
                </c:pt>
                <c:pt idx="5">
                  <c:v>1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30964467005076</c:v>
                </c:pt>
                <c:pt idx="1">
                  <c:v>6.09137055837563</c:v>
                </c:pt>
                <c:pt idx="2">
                  <c:v>16.6497461928934</c:v>
                </c:pt>
                <c:pt idx="3">
                  <c:v>15.0253807106599</c:v>
                </c:pt>
                <c:pt idx="4">
                  <c:v>8.12182741116751</c:v>
                </c:pt>
                <c:pt idx="5">
                  <c:v>8.12182741116751</c:v>
                </c:pt>
                <c:pt idx="6">
                  <c:v>4.06091370558376</c:v>
                </c:pt>
                <c:pt idx="7">
                  <c:v>7.30964467005076</c:v>
                </c:pt>
                <c:pt idx="8">
                  <c:v>0.812182741116751</c:v>
                </c:pt>
                <c:pt idx="9">
                  <c:v>0.812182741116751</c:v>
                </c:pt>
                <c:pt idx="10">
                  <c:v>1.21827411167513</c:v>
                </c:pt>
                <c:pt idx="11">
                  <c:v>0.812182741116751</c:v>
                </c:pt>
                <c:pt idx="12">
                  <c:v>0.406091370558376</c:v>
                </c:pt>
                <c:pt idx="13">
                  <c:v>0.406091370558376</c:v>
                </c:pt>
                <c:pt idx="14">
                  <c:v>1.6243654822335</c:v>
                </c:pt>
                <c:pt idx="15">
                  <c:v>1.21827411167513</c:v>
                </c:pt>
              </c:numCache>
            </c:numRef>
          </c:val>
        </c:ser>
        <c:gapWidth val="100"/>
        <c:overlap val="0"/>
        <c:axId val="44922445"/>
        <c:axId val="34163461"/>
      </c:barChart>
      <c:catAx>
        <c:axId val="4492244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63461"/>
        <c:crossesAt val="0"/>
        <c:auto val="1"/>
        <c:lblAlgn val="ctr"/>
        <c:lblOffset val="100"/>
        <c:noMultiLvlLbl val="0"/>
      </c:catAx>
      <c:valAx>
        <c:axId val="34163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2244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44923895375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7561696468"/>
          <c:y val="0.209116353458617"/>
          <c:w val="0.959989655681986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3</c:v>
                </c:pt>
                <c:pt idx="2">
                  <c:v>2</c:v>
                </c:pt>
                <c:pt idx="3">
                  <c:v>1</c:v>
                </c:pt>
                <c:pt idx="4">
                  <c:v>3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47715736040609</c:v>
                </c:pt>
                <c:pt idx="1">
                  <c:v>3.73096446700508</c:v>
                </c:pt>
                <c:pt idx="2">
                  <c:v>10.1979695431472</c:v>
                </c:pt>
                <c:pt idx="3">
                  <c:v>9.20304568527919</c:v>
                </c:pt>
                <c:pt idx="4">
                  <c:v>4.9746192893401</c:v>
                </c:pt>
                <c:pt idx="5">
                  <c:v>4.9746192893401</c:v>
                </c:pt>
                <c:pt idx="6">
                  <c:v>2.48730964467005</c:v>
                </c:pt>
                <c:pt idx="7">
                  <c:v>4.47715736040609</c:v>
                </c:pt>
                <c:pt idx="8">
                  <c:v>0.49746192893401</c:v>
                </c:pt>
                <c:pt idx="9">
                  <c:v>0.49746192893401</c:v>
                </c:pt>
                <c:pt idx="10">
                  <c:v>0.746192893401015</c:v>
                </c:pt>
                <c:pt idx="11">
                  <c:v>0.49746192893401</c:v>
                </c:pt>
                <c:pt idx="12">
                  <c:v>0.248730964467005</c:v>
                </c:pt>
                <c:pt idx="13">
                  <c:v>0.248730964467005</c:v>
                </c:pt>
                <c:pt idx="14">
                  <c:v>0.99492385786802</c:v>
                </c:pt>
                <c:pt idx="15">
                  <c:v>0.746192893401015</c:v>
                </c:pt>
              </c:numCache>
            </c:numRef>
          </c:val>
        </c:ser>
        <c:gapWidth val="100"/>
        <c:overlap val="0"/>
        <c:axId val="8557101"/>
        <c:axId val="88457892"/>
      </c:barChart>
      <c:catAx>
        <c:axId val="85571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57892"/>
        <c:crossesAt val="0"/>
        <c:auto val="1"/>
        <c:lblAlgn val="ctr"/>
        <c:lblOffset val="100"/>
        <c:noMultiLvlLbl val="0"/>
      </c:catAx>
      <c:valAx>
        <c:axId val="88457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710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81524147098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748929257126"/>
          <c:y val="0.209116353458617"/>
          <c:w val="0.960013291980505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5</c:v>
                </c:pt>
                <c:pt idx="2">
                  <c:v>6</c:v>
                </c:pt>
                <c:pt idx="3">
                  <c:v>0</c:v>
                </c:pt>
                <c:pt idx="4">
                  <c:v>3</c:v>
                </c:pt>
                <c:pt idx="5">
                  <c:v>0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57868020304569</c:v>
                </c:pt>
                <c:pt idx="1">
                  <c:v>5.48223350253807</c:v>
                </c:pt>
                <c:pt idx="2">
                  <c:v>14.9847715736041</c:v>
                </c:pt>
                <c:pt idx="3">
                  <c:v>13.5228426395939</c:v>
                </c:pt>
                <c:pt idx="4">
                  <c:v>7.30964467005076</c:v>
                </c:pt>
                <c:pt idx="5">
                  <c:v>7.30964467005076</c:v>
                </c:pt>
                <c:pt idx="6">
                  <c:v>3.65482233502538</c:v>
                </c:pt>
                <c:pt idx="7">
                  <c:v>6.57868020304569</c:v>
                </c:pt>
                <c:pt idx="8">
                  <c:v>0.730964467005076</c:v>
                </c:pt>
                <c:pt idx="9">
                  <c:v>0.730964467005076</c:v>
                </c:pt>
                <c:pt idx="10">
                  <c:v>1.09644670050761</c:v>
                </c:pt>
                <c:pt idx="11">
                  <c:v>0.730964467005076</c:v>
                </c:pt>
                <c:pt idx="12">
                  <c:v>0.365482233502538</c:v>
                </c:pt>
                <c:pt idx="13">
                  <c:v>0.365482233502538</c:v>
                </c:pt>
                <c:pt idx="14">
                  <c:v>1.46192893401015</c:v>
                </c:pt>
                <c:pt idx="15">
                  <c:v>1.09644670050761</c:v>
                </c:pt>
              </c:numCache>
            </c:numRef>
          </c:val>
        </c:ser>
        <c:gapWidth val="100"/>
        <c:overlap val="0"/>
        <c:axId val="4687701"/>
        <c:axId val="73866352"/>
      </c:barChart>
      <c:catAx>
        <c:axId val="46877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66352"/>
        <c:crossesAt val="0"/>
        <c:auto val="1"/>
        <c:lblAlgn val="ctr"/>
        <c:lblOffset val="100"/>
        <c:noMultiLvlLbl val="0"/>
      </c:catAx>
      <c:valAx>
        <c:axId val="73866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770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31" spc="-1" strike="noStrike">
                <a:solidFill>
                  <a:srgbClr val="000000"/>
                </a:solidFill>
                <a:latin typeface="Arial"/>
              </a:defRPr>
            </a:pPr>
            <a:r>
              <a:rPr b="1" sz="1531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198947871832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6541019956"/>
          <c:y val="0.209197700574856"/>
          <c:w val="0.960001739054824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6</c:v>
                </c:pt>
                <c:pt idx="3">
                  <c:v>9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6974789915966</c:v>
                </c:pt>
                <c:pt idx="1">
                  <c:v>3.02521008403361</c:v>
                </c:pt>
                <c:pt idx="2">
                  <c:v>9.74789915966386</c:v>
                </c:pt>
                <c:pt idx="3">
                  <c:v>9.41176470588235</c:v>
                </c:pt>
                <c:pt idx="4">
                  <c:v>3.69747899159664</c:v>
                </c:pt>
                <c:pt idx="5">
                  <c:v>3.69747899159664</c:v>
                </c:pt>
                <c:pt idx="6">
                  <c:v>1.00840336134454</c:v>
                </c:pt>
                <c:pt idx="7">
                  <c:v>3.6974789915966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34453781512605</c:v>
                </c:pt>
              </c:numCache>
            </c:numRef>
          </c:val>
        </c:ser>
        <c:gapWidth val="100"/>
        <c:overlap val="0"/>
        <c:axId val="4726273"/>
        <c:axId val="8904139"/>
      </c:barChart>
      <c:catAx>
        <c:axId val="47262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4139"/>
        <c:crossesAt val="0"/>
        <c:auto val="1"/>
        <c:lblAlgn val="ctr"/>
        <c:lblOffset val="100"/>
        <c:noMultiLvlLbl val="0"/>
      </c:catAx>
      <c:valAx>
        <c:axId val="8904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627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227870548249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7561696468"/>
          <c:y val="0.209116353458617"/>
          <c:w val="0.959989655681986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8</c:v>
                </c:pt>
                <c:pt idx="3">
                  <c:v>8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82352941176471</c:v>
                </c:pt>
                <c:pt idx="1">
                  <c:v>2.64705882352941</c:v>
                </c:pt>
                <c:pt idx="2">
                  <c:v>8.52941176470588</c:v>
                </c:pt>
                <c:pt idx="3">
                  <c:v>8.23529411764706</c:v>
                </c:pt>
                <c:pt idx="4">
                  <c:v>3.23529411764706</c:v>
                </c:pt>
                <c:pt idx="5">
                  <c:v>3.23529411764706</c:v>
                </c:pt>
                <c:pt idx="6">
                  <c:v>0.882352941176471</c:v>
                </c:pt>
                <c:pt idx="7">
                  <c:v>3.2352941176470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17647058823529</c:v>
                </c:pt>
              </c:numCache>
            </c:numRef>
          </c:val>
        </c:ser>
        <c:gapWidth val="100"/>
        <c:overlap val="0"/>
        <c:axId val="15885809"/>
        <c:axId val="92112945"/>
      </c:barChart>
      <c:catAx>
        <c:axId val="1588580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12945"/>
        <c:crossesAt val="0"/>
        <c:auto val="1"/>
        <c:lblAlgn val="ctr"/>
        <c:lblOffset val="100"/>
        <c:noMultiLvlLbl val="0"/>
      </c:catAx>
      <c:valAx>
        <c:axId val="92112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580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48" spc="-1" strike="noStrike">
                <a:solidFill>
                  <a:srgbClr val="000000"/>
                </a:solidFill>
                <a:latin typeface="Arial"/>
              </a:defRPr>
            </a:pPr>
            <a:r>
              <a:rPr b="1" sz="1548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16552937642"/>
          <c:y val="0.020553271858682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62250547187"/>
          <c:y val="0.209310076658149"/>
          <c:w val="0.9599588000515"/>
          <c:h val="0.7700255527163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3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9327731092437</c:v>
                </c:pt>
                <c:pt idx="1">
                  <c:v>2.72268907563025</c:v>
                </c:pt>
                <c:pt idx="2">
                  <c:v>8.77310924369748</c:v>
                </c:pt>
                <c:pt idx="3">
                  <c:v>8.47058823529412</c:v>
                </c:pt>
                <c:pt idx="4">
                  <c:v>3.32773109243697</c:v>
                </c:pt>
                <c:pt idx="5">
                  <c:v>3.32773109243697</c:v>
                </c:pt>
                <c:pt idx="6">
                  <c:v>0.907563025210084</c:v>
                </c:pt>
                <c:pt idx="7">
                  <c:v>3.3277310924369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21008403361345</c:v>
                </c:pt>
              </c:numCache>
            </c:numRef>
          </c:val>
        </c:ser>
        <c:gapWidth val="100"/>
        <c:overlap val="0"/>
        <c:axId val="77181998"/>
        <c:axId val="1752112"/>
      </c:barChart>
      <c:catAx>
        <c:axId val="7718199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2112"/>
        <c:crossesAt val="0"/>
        <c:auto val="1"/>
        <c:lblAlgn val="ctr"/>
        <c:lblOffset val="100"/>
        <c:noMultiLvlLbl val="0"/>
      </c:catAx>
      <c:valAx>
        <c:axId val="1752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8199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31" spc="-1" strike="noStrike">
                <a:solidFill>
                  <a:srgbClr val="000000"/>
                </a:solidFill>
                <a:latin typeface="Arial"/>
              </a:defRPr>
            </a:pPr>
            <a:r>
              <a:rPr b="1" sz="1531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893874179384"/>
          <c:y val="0.02033107432507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2177731403"/>
          <c:y val="0.209310076658149"/>
          <c:w val="0.959958262684231"/>
          <c:h val="0.7700255527163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3</c:v>
                </c:pt>
                <c:pt idx="2">
                  <c:v>9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72093023255814</c:v>
                </c:pt>
                <c:pt idx="1">
                  <c:v>3.72093023255814</c:v>
                </c:pt>
                <c:pt idx="2">
                  <c:v>14.8837209302326</c:v>
                </c:pt>
                <c:pt idx="3">
                  <c:v>13.0232558139535</c:v>
                </c:pt>
                <c:pt idx="4">
                  <c:v>9.30232558139535</c:v>
                </c:pt>
                <c:pt idx="5">
                  <c:v>9.30232558139535</c:v>
                </c:pt>
                <c:pt idx="6">
                  <c:v>9.30232558139535</c:v>
                </c:pt>
                <c:pt idx="7">
                  <c:v>5.58139534883721</c:v>
                </c:pt>
                <c:pt idx="8">
                  <c:v>3.72093023255814</c:v>
                </c:pt>
                <c:pt idx="9">
                  <c:v>3.72093023255814</c:v>
                </c:pt>
                <c:pt idx="10">
                  <c:v>3.72093023255814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0191622"/>
        <c:axId val="53579506"/>
      </c:barChart>
      <c:catAx>
        <c:axId val="2019162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79506"/>
        <c:crossesAt val="0"/>
        <c:auto val="1"/>
        <c:lblAlgn val="ctr"/>
        <c:lblOffset val="100"/>
        <c:noMultiLvlLbl val="0"/>
      </c:catAx>
      <c:valAx>
        <c:axId val="53579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9162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29" spc="-1" strike="noStrike">
                <a:solidFill>
                  <a:srgbClr val="000000"/>
                </a:solidFill>
                <a:latin typeface="Arial"/>
              </a:defRPr>
            </a:pPr>
            <a:r>
              <a:rPr b="1" sz="1529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80826920569"/>
          <c:y val="0.02033107432507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2177731403"/>
          <c:y val="0.209310076658149"/>
          <c:w val="0.959958262684231"/>
          <c:h val="0.7700255527163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76744186046512</c:v>
                </c:pt>
                <c:pt idx="1">
                  <c:v>1.76744186046512</c:v>
                </c:pt>
                <c:pt idx="2">
                  <c:v>7.06976744186047</c:v>
                </c:pt>
                <c:pt idx="3">
                  <c:v>6.18604651162791</c:v>
                </c:pt>
                <c:pt idx="4">
                  <c:v>4.41860465116279</c:v>
                </c:pt>
                <c:pt idx="5">
                  <c:v>4.41860465116279</c:v>
                </c:pt>
                <c:pt idx="6">
                  <c:v>4.41860465116279</c:v>
                </c:pt>
                <c:pt idx="7">
                  <c:v>2.65116279069767</c:v>
                </c:pt>
                <c:pt idx="8">
                  <c:v>1.76744186046512</c:v>
                </c:pt>
                <c:pt idx="9">
                  <c:v>1.76744186046512</c:v>
                </c:pt>
                <c:pt idx="10">
                  <c:v>1.7674418604651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9473426"/>
        <c:axId val="29863793"/>
      </c:barChart>
      <c:catAx>
        <c:axId val="194734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63793"/>
        <c:crossesAt val="0"/>
        <c:auto val="1"/>
        <c:lblAlgn val="ctr"/>
        <c:lblOffset val="100"/>
        <c:noMultiLvlLbl val="0"/>
      </c:catAx>
      <c:valAx>
        <c:axId val="29863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7342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61" spc="-1" strike="noStrike">
                <a:solidFill>
                  <a:srgbClr val="000000"/>
                </a:solidFill>
                <a:latin typeface="Arial"/>
              </a:defRPr>
            </a:pPr>
            <a:r>
              <a:rPr b="1" sz="1561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02510531467"/>
          <c:y val="0.020664370625486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65975915918"/>
          <c:y val="0.209310076658149"/>
          <c:w val="0.960001702055232"/>
          <c:h val="0.7700255527163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5</c:v>
                </c:pt>
                <c:pt idx="1">
                  <c:v>0</c:v>
                </c:pt>
                <c:pt idx="2">
                  <c:v>0</c:v>
                </c:pt>
                <c:pt idx="3">
                  <c:v>2</c:v>
                </c:pt>
                <c:pt idx="4">
                  <c:v>2</c:v>
                </c:pt>
                <c:pt idx="5">
                  <c:v>8</c:v>
                </c:pt>
                <c:pt idx="6">
                  <c:v>8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10674157303371</c:v>
                </c:pt>
                <c:pt idx="1">
                  <c:v>3.10674157303371</c:v>
                </c:pt>
                <c:pt idx="2">
                  <c:v>15.9775280898876</c:v>
                </c:pt>
                <c:pt idx="3">
                  <c:v>13.314606741573</c:v>
                </c:pt>
                <c:pt idx="4">
                  <c:v>9.32022471910112</c:v>
                </c:pt>
                <c:pt idx="5">
                  <c:v>9.76404494382022</c:v>
                </c:pt>
                <c:pt idx="6">
                  <c:v>9.32022471910112</c:v>
                </c:pt>
                <c:pt idx="7">
                  <c:v>7.98876404494382</c:v>
                </c:pt>
                <c:pt idx="8">
                  <c:v>1.7752808988764</c:v>
                </c:pt>
                <c:pt idx="9">
                  <c:v>1.7752808988764</c:v>
                </c:pt>
                <c:pt idx="10">
                  <c:v>1.7752808988764</c:v>
                </c:pt>
                <c:pt idx="11">
                  <c:v>0</c:v>
                </c:pt>
                <c:pt idx="12">
                  <c:v>0.887640449438202</c:v>
                </c:pt>
                <c:pt idx="13">
                  <c:v>0.88764044943820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1831596"/>
        <c:axId val="59320542"/>
      </c:barChart>
      <c:catAx>
        <c:axId val="5183159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20542"/>
        <c:crossesAt val="0"/>
        <c:auto val="1"/>
        <c:lblAlgn val="ctr"/>
        <c:lblOffset val="100"/>
        <c:noMultiLvlLbl val="0"/>
      </c:catAx>
      <c:valAx>
        <c:axId val="59320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3159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BDCC8-A02F-4A4F-9E4F-921BDE4BDCD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107-0AC7-4D1A-B47D-4E57671F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2D3-AB70-48B8-9BE4-ED005725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79E-DB1A-49FF-AF7E-7F7B9D54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B74-B97E-4A3D-A7CF-22F30610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B3F-D6F4-48FA-84CF-46C7B211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E1F-C7AA-4E0F-B4F8-361F43ED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2E0-88BC-47AA-AE5D-B59B1BAF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D53-F2E4-406B-80E4-F9341498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6AD-1880-49A2-B613-BEFDDF6A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BF7-178A-4B28-B8DE-FBB110B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991-D87F-4975-B7F8-32EC01F0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9C8-9F16-4E1B-8288-C2561910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9559E-06DF-4F8C-AB83-9D4C16A1B7A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ritannic Bold"/>
              </a:rPr>
              <a:t>VISITA SEMEST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933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A ESTADUAL IRMAN RIBEIRO DE ALME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U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 –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fessora Luc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0360" y="1440000"/>
          <a:ext cx="828036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51928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928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60360" y="1440000"/>
          <a:ext cx="828036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0360" y="1440000"/>
          <a:ext cx="84596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032360" cy="568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549360"/>
            <a:ext cx="36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75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 Vol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21320" y="530064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31640" y="1619280"/>
          <a:ext cx="82807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60360" y="1619280"/>
          <a:ext cx="8280360" cy="306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60360" y="1619280"/>
          <a:ext cx="8280360" cy="306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4920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ESPER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-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FESSORA CRISTI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4780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12000" y="5373720"/>
            <a:ext cx="26636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584360"/>
          <a:ext cx="828036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0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60360" y="1530360"/>
          <a:ext cx="8280360" cy="314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31640" y="1440000"/>
          <a:ext cx="838836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0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DMS</dc:creator>
  <dc:description/>
  <dc:language>en-US</dc:language>
  <cp:lastModifiedBy>SEDMS</cp:lastModifiedBy>
  <cp:revision>0</cp:revision>
  <dc:subject/>
  <dc:title>As tecnologias mais utilizadas na escola são:</dc:title>
</cp:coreProperties>
</file>